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A3384-B691-4570-B6D3-0F68F9DCB1CA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A3D6E-DB20-422C-AFFA-42F0513D5C9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2CB7D-E353-4F8D-A58A-BF079B25170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8157E-850F-479A-95EF-F049E89AAFC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CC033-BA63-446A-BE10-5767A48B0EF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60471-F450-49ED-955B-890B5145B8F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F12F1-D9CD-486C-8B2B-39C07004941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42715-E293-4A88-A0A2-5CCFCFA6406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445D5-77A7-4615-B32B-498F224CB4E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FD6AC-608E-41BA-8C32-1A6F25B60EC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519A7-7CC6-4353-8206-74B4D1026C5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1) Nommez moi les jouets avec lesquels vous avez joué quand vous étiez enf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B9343-4B6E-4180-9F4A-79D570CC08B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Des commentaires sur ce que les gens mangent est devenue toléré, accep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Se faire taquiner sur son poids = un autre facteur de risque à développer un T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Faites attention lorsque vous portez un jugement sur quelqu’un à propos de son apparence… ça peut aller lo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4764A-B5D3-4C40-9062-60ACBD963D2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47E20-153D-47C6-9C93-6EC397AFE99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24E60-308D-4D8A-8639-5B4125D4054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lusieurs célébrités ont dû se défendre suite aux critiques des médias concernant leur cor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Discussion sur intim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AB1AF-A7B0-4EF9-80B0-9D7CB5C9E62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AB907-FF27-4B48-8B0F-7BBE5ADA84D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1) Présentation du site web de l’ANEB Québec (plus précisément du volet adolescen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4219B-3383-4673-BB77-1C398FF1FFE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1DBC1-68CF-48B8-B747-6B2CEB36AD0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EACDA-C1A0-4621-B9F1-BF2DF6C2494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80334-E526-4455-B932-9FB79C17347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42EB7-9058-48F6-A048-51A00F8FFC1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0A1DF-CA9B-4FC2-A03D-10C8D0EB08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064A6-2C9D-4DF5-B6AC-7077B288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56A1B-A0C4-42A2-9FAC-A1EA0DB5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F524B-4AC6-43CD-BD37-215E3515D4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E3200-927D-4E45-A14F-F2EEC291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4A7A-C0CC-4BF1-A90D-A5F48F68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A8B15-C6FF-4F58-AD85-95465246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1ABF-7F39-4B54-9081-3907F9B4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B2CD0-EE7D-4C73-BED5-51CA62C5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82DF7-2600-42DA-BFA6-2E7313CB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1ABE3-9E71-43C3-A9A4-0A633513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3456-4DBE-4EE4-8C7F-297759D7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112BB-C90C-4B93-AE6D-E424091378DA}" type="slidenum">
              <a:rPr b="0" lang="en-CA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anebquebec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44800" y="463680"/>
            <a:ext cx="4735440" cy="6016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Britannic Bold"/>
              </a:rPr>
              <a:t>L’obsession du cor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00160" y="3857760"/>
            <a:ext cx="640080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Conférencière: Anne-Marie Bér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ANEB Québ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404040"/>
                </a:solidFill>
                <a:latin typeface="Calibri"/>
              </a:rPr>
              <a:t>Gatin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404040"/>
                </a:solidFill>
                <a:latin typeface="Calibri"/>
              </a:rPr>
              <a:t>6 novembr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>
            <a:grayscl/>
            <a:lum bright="14000"/>
          </a:blip>
          <a:stretch/>
        </p:blipFill>
        <p:spPr>
          <a:xfrm>
            <a:off x="0" y="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1857240"/>
            <a:ext cx="1857240" cy="2668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>
            <a:grayscl/>
          </a:blip>
          <a:srcRect l="18332" t="7811" r="12572" b="0"/>
          <a:stretch/>
        </p:blipFill>
        <p:spPr>
          <a:xfrm>
            <a:off x="0" y="450072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Britannic Bold"/>
              </a:rPr>
              <a:t>Des faits préoccupan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28880" y="1600200"/>
            <a:ext cx="675792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40% des fillettes entre 9 et 10 ans tenteraient de perdre du poid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55% des fillettes de 8 à 10 ans seraient insatisfaites de leur taill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Jusqu’à 21% des fillettes de 5 ans s’inquiéteraient de leur poid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Jusqu’à 60% des adolescentes seraient insatisfaites de leur corps.</a:t>
            </a: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  <a:ea typeface="Arial"/>
              </a:rPr>
              <a:t>(Société Canadienne de Pédiatrie, 2003; Thompson, 2004)</a:t>
            </a:r>
            <a:r>
              <a:rPr b="0" lang="fr-CA" sz="18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Britannic Bold"/>
              </a:rPr>
              <a:t>Saviez-vous que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28880" y="1600200"/>
            <a:ext cx="675792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Arial"/>
              </a:rPr>
              <a:t>18% des athlètes démontrent des symptômes d’un trouble alimentai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Arial"/>
              </a:rPr>
              <a:t>Les athlètes insatisfaits de leur masse musculaire sont plus à risque d’utiliser des stéroïdes anabolis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(American Psychological Association, 2003)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Britannic Bold"/>
              </a:rPr>
              <a:t>Saviez-vous que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28880" y="1600200"/>
            <a:ext cx="675792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Arial"/>
              </a:rPr>
              <a:t>Il y a trente ans, le mannequin moyen était 8% en dessous du poids naturel moyen d’une fem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Arial"/>
              </a:rPr>
              <a:t>De nos jours, le mannequin moyen est 23% en dessous du poids naturel moyen d’une fem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  <a:ea typeface="Arial"/>
              </a:rPr>
              <a:t>(Journal of Social and Clinical Psychology, 2005)</a:t>
            </a:r>
            <a:r>
              <a:rPr b="0" lang="fr-CA" sz="18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4720" y="274680"/>
            <a:ext cx="647208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9600" spc="-1" strike="noStrike">
                <a:solidFill>
                  <a:srgbClr val="000000"/>
                </a:solidFill>
                <a:latin typeface="Britannic Bold"/>
              </a:rPr>
              <a:t>Les retouch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grayscl/>
            <a:lum bright="14000"/>
          </a:blip>
          <a:stretch/>
        </p:blipFill>
        <p:spPr>
          <a:xfrm>
            <a:off x="0" y="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1857240"/>
            <a:ext cx="1857240" cy="2668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>
            <a:grayscl/>
          </a:blip>
          <a:srcRect l="18332" t="7811" r="12572" b="0"/>
          <a:stretch/>
        </p:blipFill>
        <p:spPr>
          <a:xfrm>
            <a:off x="0" y="450072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28880" y="357120"/>
            <a:ext cx="67579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  <a:ea typeface="Arial"/>
              </a:rPr>
              <a:t>99% des photos retrouvé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  <a:ea typeface="Arial"/>
              </a:rPr>
              <a:t>dans les revues so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  <a:ea typeface="Arial"/>
              </a:rPr>
              <a:t>retouchée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  <a:ea typeface="Arial"/>
              </a:rPr>
              <a:t>(Lynch, 2007)</a:t>
            </a:r>
            <a:r>
              <a:rPr b="0" lang="fr-CA" sz="18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14720" y="274680"/>
            <a:ext cx="647208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9600" spc="-1" strike="noStrike">
                <a:solidFill>
                  <a:srgbClr val="000000"/>
                </a:solidFill>
                <a:latin typeface="Britannic Bold"/>
              </a:rPr>
              <a:t>Les diè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grayscl/>
            <a:lum bright="14000"/>
          </a:blip>
          <a:stretch/>
        </p:blipFill>
        <p:spPr>
          <a:xfrm>
            <a:off x="0" y="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1857240"/>
            <a:ext cx="1857240" cy="266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>
            <a:grayscl/>
          </a:blip>
          <a:srcRect l="18332" t="7811" r="12572" b="0"/>
          <a:stretch/>
        </p:blipFill>
        <p:spPr>
          <a:xfrm>
            <a:off x="0" y="450072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Britannic Bold"/>
              </a:rPr>
              <a:t>Pourta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28880" y="1600200"/>
            <a:ext cx="675792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  <a:ea typeface="Arial"/>
              </a:rPr>
              <a:t>Le comportement qui nous rend le plus à risque de développer un trouble alimentaire est d’</a:t>
            </a:r>
            <a:r>
              <a:rPr b="1" lang="fr-CA" sz="3000" spc="-1" strike="noStrike">
                <a:solidFill>
                  <a:srgbClr val="000000"/>
                </a:solidFill>
                <a:latin typeface="Calibri"/>
                <a:ea typeface="Arial"/>
              </a:rPr>
              <a:t>entreprendre un régime</a:t>
            </a:r>
            <a:r>
              <a:rPr b="0" lang="fr-CA" sz="3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  <a:ea typeface="Arial"/>
              </a:rPr>
              <a:t>Les adolescentes qui suivent un régime sont plus à risque d’avoir un surpoids à l’âge adu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  <a:ea typeface="Arial"/>
              </a:rPr>
              <a:t>95% des personnes à la diète reprendront le poids perd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14720" y="274680"/>
            <a:ext cx="647208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9600" spc="-1" strike="noStrike">
                <a:solidFill>
                  <a:srgbClr val="000000"/>
                </a:solidFill>
                <a:latin typeface="Britannic Bold"/>
              </a:rPr>
              <a:t>Les chirurgies esthétiqu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>
            <a:grayscl/>
            <a:lum bright="14000"/>
          </a:blip>
          <a:stretch/>
        </p:blipFill>
        <p:spPr>
          <a:xfrm>
            <a:off x="0" y="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1857240"/>
            <a:ext cx="1857240" cy="266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>
            <a:grayscl/>
          </a:blip>
          <a:srcRect l="18332" t="7811" r="12572" b="0"/>
          <a:stretch/>
        </p:blipFill>
        <p:spPr>
          <a:xfrm>
            <a:off x="0" y="450072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Britannic Bold"/>
              </a:rPr>
              <a:t>Des faits préoccupan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28880" y="1714680"/>
            <a:ext cx="6757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Entre 1997 et 2008, le nombre d’opérations en chirurgie esthétique a bondi de 304%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La liposuccion et l’augmentation mammaire sont les procédures les plus populaires chez les femm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Calibri"/>
                <a:ea typeface="Arial"/>
              </a:rPr>
              <a:t>Les standards de beauté féminins actuels poussent les femmes vers la chirurgie esthétiqu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Calibri"/>
                <a:ea typeface="Arial"/>
              </a:rPr>
              <a:t>(Harrison, 2003; American Society for Aesthetic Plastic Surgery, 2009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214200"/>
            <a:ext cx="85075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Calibri"/>
              </a:rPr>
              <a:t>Le souci de l’apparenc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Calibri"/>
              </a:rPr>
              <a:t>Ça commenc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800" spc="-1" strike="noStrike">
                <a:solidFill>
                  <a:srgbClr val="000000"/>
                </a:solidFill>
                <a:latin typeface="Calibri"/>
              </a:rPr>
              <a:t>à l’</a:t>
            </a:r>
            <a:r>
              <a:rPr b="0" lang="fr-CA" sz="5400" spc="-1" strike="noStrike">
                <a:solidFill>
                  <a:srgbClr val="000000"/>
                </a:solidFill>
                <a:latin typeface="Rage Italic"/>
              </a:rPr>
              <a:t>adolescence</a:t>
            </a: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14720" y="274680"/>
            <a:ext cx="647208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8000"/>
            </a:br>
            <a:r>
              <a:rPr b="0" lang="fr-CA" sz="8000" spc="-1" strike="noStrike">
                <a:solidFill>
                  <a:srgbClr val="000000"/>
                </a:solidFill>
                <a:latin typeface="Britannic Bold"/>
              </a:rPr>
              <a:t>L’intimidation du corps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>
            <a:grayscl/>
            <a:lum bright="14000"/>
          </a:blip>
          <a:stretch/>
        </p:blipFill>
        <p:spPr>
          <a:xfrm>
            <a:off x="0" y="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1857240"/>
            <a:ext cx="1857240" cy="2668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>
            <a:grayscl/>
          </a:blip>
          <a:srcRect l="18332" t="7811" r="12572" b="0"/>
          <a:stretch/>
        </p:blipFill>
        <p:spPr>
          <a:xfrm>
            <a:off x="0" y="450072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28880" y="428760"/>
            <a:ext cx="675792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Avez-vous déjà été 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témoin</a:t>
            </a:r>
            <a:r>
              <a:rPr b="0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 ou 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victime</a:t>
            </a:r>
            <a:r>
              <a:rPr b="0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 d’intimidation du corp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Avez-vous déjà 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intimidé</a:t>
            </a:r>
            <a:r>
              <a:rPr b="0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 quelqu’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28880" y="428760"/>
            <a:ext cx="675792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500" spc="-1" strike="noStrike">
                <a:solidFill>
                  <a:srgbClr val="000000"/>
                </a:solidFill>
                <a:latin typeface="Calibri"/>
                <a:ea typeface="Arial"/>
              </a:rPr>
              <a:t>Les adolescent(e)s victim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500" spc="-1" strike="noStrike">
                <a:solidFill>
                  <a:srgbClr val="000000"/>
                </a:solidFill>
                <a:latin typeface="Calibri"/>
                <a:ea typeface="Arial"/>
              </a:rPr>
              <a:t>d’intimidation par rapport à leu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3500" spc="-1" strike="noStrike">
                <a:solidFill>
                  <a:srgbClr val="000000"/>
                </a:solidFill>
                <a:latin typeface="Calibri"/>
                <a:ea typeface="Arial"/>
              </a:rPr>
              <a:t>CORPS</a:t>
            </a:r>
            <a:r>
              <a:rPr b="0" lang="fr-CA" sz="3500" spc="-1" strike="noStrike">
                <a:solidFill>
                  <a:srgbClr val="000000"/>
                </a:solidFill>
                <a:latin typeface="Calibri"/>
                <a:ea typeface="Arial"/>
              </a:rPr>
              <a:t> sont plus à risque d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500" spc="-1" strike="noStrike">
                <a:solidFill>
                  <a:srgbClr val="000000"/>
                </a:solidFill>
                <a:latin typeface="Calibri"/>
                <a:ea typeface="Arial"/>
              </a:rPr>
              <a:t>développer un trouble alimentaire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CA" sz="3500" spc="-1" strike="noStrike">
                <a:solidFill>
                  <a:srgbClr val="000000"/>
                </a:solidFill>
                <a:latin typeface="Calibri"/>
                <a:ea typeface="Arial"/>
              </a:rPr>
              <a:t>de faire de l’exercice à excès e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CA" sz="3500" spc="-1" strike="noStrike">
                <a:solidFill>
                  <a:srgbClr val="000000"/>
                </a:solidFill>
                <a:latin typeface="Calibri"/>
                <a:ea typeface="Arial"/>
              </a:rPr>
              <a:t>d’être insatisfait(e)s de leur corp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  <a:ea typeface="Arial"/>
              </a:rPr>
              <a:t>(Lunde, 2009)</a:t>
            </a:r>
            <a:r>
              <a:rPr b="0" lang="fr-CA" sz="18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00040" y="190440"/>
            <a:ext cx="8186760" cy="13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Britannic Bold"/>
              </a:rPr>
              <a:t>Les débats sur le poids:</a:t>
            </a:r>
            <a:br>
              <a:rPr sz="4000"/>
            </a:br>
            <a:r>
              <a:rPr b="0" lang="fr-CA" sz="4000" spc="-1" strike="noStrike">
                <a:solidFill>
                  <a:srgbClr val="000000"/>
                </a:solidFill>
                <a:latin typeface="Britannic Bold"/>
              </a:rPr>
              <a:t>que sont devenus nos repè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143160" y="1974960"/>
            <a:ext cx="2857680" cy="3882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2853000" cy="3857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072120" y="1976400"/>
            <a:ext cx="2857680" cy="388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14720" y="274680"/>
            <a:ext cx="647208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6000" spc="-1" strike="noStrike">
                <a:solidFill>
                  <a:srgbClr val="000000"/>
                </a:solidFill>
                <a:latin typeface="Britannic Bold"/>
              </a:rPr>
              <a:t>Promouvoir la diversité corporelle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>
            <a:grayscl/>
            <a:lum bright="14000"/>
          </a:blip>
          <a:stretch/>
        </p:blipFill>
        <p:spPr>
          <a:xfrm>
            <a:off x="0" y="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1857240"/>
            <a:ext cx="1857240" cy="266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>
            <a:grayscl/>
          </a:blip>
          <a:srcRect l="18332" t="7811" r="12572" b="0"/>
          <a:stretch/>
        </p:blipFill>
        <p:spPr>
          <a:xfrm>
            <a:off x="0" y="450072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Promouvoir la diversité corporelle dans nos intervention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Mais ava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l faut s’interroger sur la perception que nous avons de notre propre corp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Questions à se po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Ai-je déjà suivi un régim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Pour quelle rai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Que signifie pour moi: la mince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Lorsque je prends quelques kilos… quelle est mon attitude, mes sentiments associé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659640" y="2637000"/>
            <a:ext cx="1952640" cy="250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Une charte: un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6 octobre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Charte québécoise pour une image corporelle saine et divers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7 lignes direc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Visant la promotion d’une image corporelle positive et de saines habitudes alimentai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L’ANEB Québec appu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L’obsession du corps dans les média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le développement des troubles du comportement alimentaire (TCA)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Un li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Market"/>
              </a:rPr>
              <a:t>Le continuum de gravité d’une relation dysfonctionnelle à la nourr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809880"/>
            <a:ext cx="8305920" cy="1800"/>
          </a:xfrm>
          <a:prstGeom prst="line">
            <a:avLst/>
          </a:prstGeom>
          <a:ln w="127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36080" y="4191120"/>
            <a:ext cx="182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Insatisf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corpor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51040" y="2703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243828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Préoccu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par rapport au poi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et à l’ali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48006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Forte"/>
              </a:rPr>
              <a:t>Début 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Forte"/>
              </a:rPr>
              <a:t>restrictions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Forte"/>
              </a:rPr>
              <a:t>de l’exerc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2819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Forte"/>
              </a:rPr>
              <a:t>Régimes chro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449568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Ali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Dysfonctionnel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Forte"/>
              <a:buAutoNum type="arabicParenR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Régimes sévères (restriction)</a:t>
            </a: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Forte"/>
              <a:buAutoNum type="arabicParenR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Frénésie (compulsion)</a:t>
            </a: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32767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3959280"/>
            <a:ext cx="1440" cy="84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828800" y="3882600"/>
            <a:ext cx="144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3429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019920" y="3882600"/>
            <a:ext cx="144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28954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Trou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Forte"/>
              </a:rPr>
              <a:t>Alimen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4360" y="368280"/>
            <a:ext cx="78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L’obsession du corps dans les médias 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et 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les troubles du comportement alimentaire (TCA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600200"/>
            <a:ext cx="822960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Calibri"/>
              </a:rPr>
              <a:t>Les facteurs culturels et T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facteurs prédisposant, de risqu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alibri"/>
              </a:rPr>
              <a:t>parmi d’autres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(biologiques, psychologiques et familiaux)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Renforçateurs positifs aux idées obssessives et irrationnelles (ex. minceur = bonheur)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Influence non-négligeable chez les personnes vulnérables (Ex. adolescent(e)s, faible estime de soi, perfectionnistes, etc.)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Pas l’unique facteur de développement des T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À l’adolescen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98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r>
              <a:rPr b="0" i="1" lang="fr-CA" sz="2800" spc="-1" strike="noStrike">
                <a:solidFill>
                  <a:srgbClr val="ff5050"/>
                </a:solidFill>
                <a:latin typeface="Calibri"/>
              </a:rPr>
              <a:t>L’univers médiatique: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 Un monde fascina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ff5050"/>
                </a:solidFill>
                <a:latin typeface="Calibri"/>
              </a:rPr>
              <a:t>Internet, télévision/télé-réalités, groupes musicaux (vidéoclips), magazines, publicité, ciném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monde qui fait rêver mais… que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deux modèles présenté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a femme m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’homme musc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1297080" cy="180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4724280"/>
            <a:ext cx="1297080" cy="19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CA" sz="3200" spc="-1" strike="noStrike">
                <a:solidFill>
                  <a:srgbClr val="000000"/>
                </a:solidFill>
                <a:latin typeface="Calibri"/>
              </a:rPr>
              <a:t>Quelques faits sur les T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268280"/>
            <a:ext cx="8229600" cy="59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Chez les adolescentes, le trouble alimentaire arrive au troisième rang des maladies chroniques (Société canadienne de pédiatrie, 200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ans la plupart des cas, l’anorexie débute vers l’age de 12 -13 ans tandis que la boulimie débute plutôt vers 17-18 ans (Pomerleau, 200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 n’est plus rare de voir des enfants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9 an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être hospitalisés au CHU Ste-Justine pour un problème d’anorex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usieurs études confirment que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l’obsession de la minceur et l’intimidation envers le surpoids sont des facteurs de risque importants dans le développement d’un trouble alimentaire chez les jeunes, surtout lors de la puber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835280" y="-1487520"/>
            <a:ext cx="6757920" cy="9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LSensibilisation et prévention</a:t>
            </a:r>
            <a:br>
              <a:rPr sz="3600"/>
            </a:br>
            <a:r>
              <a:rPr b="0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Site web de l’ANEB Québec</a:t>
            </a:r>
            <a:r>
              <a:rPr b="0" lang="fr-CA" sz="3600" spc="-1" strike="noStrike" u="sng">
                <a:solidFill>
                  <a:srgbClr val="ccccff"/>
                </a:solidFill>
                <a:uFillTx/>
                <a:latin typeface="Calibri"/>
                <a:ea typeface="Arial"/>
                <a:hlinkClick r:id="rId1"/>
              </a:rPr>
              <a:t>www.anebquebec.com</a:t>
            </a:r>
            <a:r>
              <a:rPr b="0" lang="fr-CA" sz="36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i="1" lang="en-CA" sz="3600" spc="-1" strike="noStrike">
                <a:solidFill>
                  <a:srgbClr val="000000"/>
                </a:solidFill>
                <a:latin typeface="Calibri"/>
                <a:ea typeface="Arial"/>
              </a:rPr>
              <a:t>Conférences disponibles: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CA" sz="3600" spc="-1" strike="noStrike">
                <a:solidFill>
                  <a:srgbClr val="4f81bd"/>
                </a:solidFill>
                <a:latin typeface="Calibri"/>
                <a:ea typeface="Arial"/>
              </a:rPr>
              <a:t>l’obsession de la minceur</a:t>
            </a:r>
            <a:br>
              <a:rPr sz="3600"/>
            </a:br>
            <a:r>
              <a:rPr b="0" lang="en-CA" sz="3600" spc="-1" strike="noStrike">
                <a:solidFill>
                  <a:srgbClr val="1f497d"/>
                </a:solidFill>
                <a:latin typeface="Calibri"/>
                <a:ea typeface="Arial"/>
              </a:rPr>
              <a:t>l’image corporelle</a:t>
            </a:r>
            <a:br>
              <a:rPr sz="3600"/>
            </a:br>
            <a:r>
              <a:rPr b="0" lang="en-CA" sz="3600" spc="-1" strike="noStrike">
                <a:solidFill>
                  <a:srgbClr val="0000ff"/>
                </a:solidFill>
                <a:latin typeface="Calibri"/>
                <a:ea typeface="Arial"/>
              </a:rPr>
              <a:t>l’estime de so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92120" y="266760"/>
            <a:ext cx="3008160" cy="10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Britannic Bold"/>
              </a:rPr>
              <a:t>Quels sont les messa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040" y="1428840"/>
            <a:ext cx="3000240" cy="50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Moyens pour amincir et tonifier le cor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Perdre du poids en peu de te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Promotion de produits de beau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Diètes à succè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Photo représentant ce qu’est une femme en santé et en beau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10120" y="285840"/>
            <a:ext cx="4605120" cy="621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28880" y="214200"/>
            <a:ext cx="67579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94% des actrices favori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des jeunes filles sont 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dessous de leur poid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natur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(Gonzalez-Lavin et Smolack, 1995)</a:t>
            </a: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28880" y="214200"/>
            <a:ext cx="67579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Les adolescentes qu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visionnent des vidéos 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musique affirment êt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moins satisfaites de le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apparen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(Hofschire &amp; Greenberg, 2002)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Britannic Bold"/>
              </a:rPr>
              <a:t>Saviez-vous que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28880" y="1357200"/>
            <a:ext cx="675792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Voir seulement 3 minutes d’images de mannequins très minces augmentent les sentiments de dépression, de honte, de culpabilité, d’insécurité, de stress et d’insatisf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Plus les médias présentent la minceur comme idéal de beauté, plus les jeunes filles sont </a:t>
            </a: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à risque de se restreindre dans leur alimentation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 et d’avoir des comportements boulim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(Stice et Shaw, 1994; Botta, 2003; Becker et al., 2002)</a:t>
            </a: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600" y="66600"/>
            <a:ext cx="160344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lie</dc:creator>
  <dc:description/>
  <dc:language>en-US</dc:language>
  <cp:lastModifiedBy>Fernanda</cp:lastModifiedBy>
  <dcterms:modified xsi:type="dcterms:W3CDTF">2013-01-13T19:33:48Z</dcterms:modified>
  <cp:revision>1</cp:revision>
  <dc:subject/>
  <dc:title>L’obsession du corps</dc:title>
</cp:coreProperties>
</file>